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CE7E-2FE4-4FB5-9FCE-E36D8DCE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635-3299-49A7-BC73-42ABE357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CE92-D339-49F4-8241-22D6F304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5CF3-5E88-43EE-9F5D-567370C1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FE8E-AAD3-47C1-B586-3992D8F1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7E6A-F093-43ED-9C93-4A349511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0CF-6C22-48A8-A419-D1E1F08F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812D-BA19-40E8-8DCD-20B492D7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950-F14F-488A-A399-3E7A8A49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CED7-A5F5-4CDA-94FB-2B2F1D29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9A7-A55F-48B9-BC42-EB6DF2CC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B73-64AE-428B-90DB-16084F87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C67D-B949-464A-B2B7-0295EF9FEE13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ffff"/>
                </a:solidFill>
                <a:latin typeface="Arial"/>
              </a:rPr>
              <a:t>Les fruits et les légum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665440" cy="2203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77080" y="4365720"/>
            <a:ext cx="1989000" cy="2158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19820400">
            <a:off x="6227280" y="620280"/>
            <a:ext cx="2536920" cy="1522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716360" y="3789360"/>
            <a:ext cx="1262160" cy="118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979640" y="4797360"/>
            <a:ext cx="1868400" cy="161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924360" y="549360"/>
            <a:ext cx="1512720" cy="1404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468360" y="328464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une pomm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30290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des champignon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87600" y="1916280"/>
            <a:ext cx="4048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un chou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2205000"/>
            <a:ext cx="38163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un céleri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rot="19820400">
            <a:off x="2626920" y="2565000"/>
            <a:ext cx="52023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des framboise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3578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une poir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359748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des poi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56000" y="1990800"/>
            <a:ext cx="453708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0:16:31Z</dcterms:created>
  <dc:creator>Martine Peters</dc:creator>
  <dc:description/>
  <dc:language>en-US</dc:language>
  <cp:lastModifiedBy>UQAM</cp:lastModifiedBy>
  <dcterms:modified xsi:type="dcterms:W3CDTF">2007-11-04T02:25:31Z</dcterms:modified>
  <cp:revision>7</cp:revision>
  <dc:subject/>
  <dc:title>Les fruits et les légumes</dc:title>
</cp:coreProperties>
</file>